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014-3DC2-4A97-82D8-BCABE114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551-2B95-4296-97B5-EAAE1560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5D7-23C0-45A2-8888-0DC6362E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C18-FE84-4022-AB6C-A3110D0C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B0E4-B858-4C41-B1F5-0A9C8B1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428-CB2D-4EDC-BFD6-7A22F22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79A-0D20-4838-BE25-42A893F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2393-3862-42E2-AB55-C104E26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E288-F417-4596-9CDB-CA80C547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DC9D-48B2-4EA6-A1EA-84BE5DC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F304-BF63-4627-AD22-DBC5C08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443-BB42-4356-9636-D2D528F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656-BBEA-48C1-BEE6-9EDFE70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373-F018-43B4-8DC6-AFFA83A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11A-3BF4-48C1-9A3A-B3923A2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8381-BD33-4048-A275-BC8D86A7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B25-EA60-4D7E-A730-8D23CB9D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76D8-089F-477D-AE1C-E536099A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9C8F-A950-4BB1-8169-9C25690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62C5-67D9-4C0B-965E-08B15E13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6D9E-FBD4-49AF-A9C7-D99EA9B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A9C8-CBDE-488B-944D-5205A6E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673-63B3-4C80-82E4-9E2C077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27E2-3B5A-41AB-84F6-ADDE24EC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9C52-276F-4793-9FF5-B9F4DE9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222A-0502-4560-9F16-D09A12F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304E-7C66-4D3A-9A68-4917CBA7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4A7C-7AFC-43D9-B222-595686A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A859-4662-4631-A7D0-5F332BB5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95B8-C177-4998-99C1-DDE27C17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8BDC-737B-4C77-9C4A-6FB5BAAB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DDBA-D358-47C0-A06D-861557F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B8E4-CFD2-4AF6-BAD0-DEE1BD2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5F7-0CE4-4304-B777-3800F303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887A-2152-4AC2-91F2-F24689D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115E-4255-4B7B-A794-7F28D812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A648-7034-4C30-832F-9CF752D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66C5-CD90-4AE8-91E9-E3B3F1C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200C-BAA2-44A4-9849-CCB6EB9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AEFA-24DD-49CD-9525-49264B4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8FA5-E4B1-427E-A2C0-9597C68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5EEF-BBC6-4C54-B487-9A9F8AE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5E3B-E2EF-45D1-9657-3B9A2D3E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2F8-07F2-42BE-851C-1BF9FD8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F39-5CDA-4F71-A9B1-D25A0A05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A41-29D2-4608-ACB2-6A33D5A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EA0-F956-470B-9133-6F939B2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24A-D2D5-4125-B0C4-5107853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AD19-E3E1-4B57-9F4C-F0185DBC96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129D-75AB-4056-8DEA-82E51A13B6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F127-4440-4AFE-81B6-565D14FACD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88E8-E09C-4AAA-A95B-470A0E3A1D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thinking Pre-College Math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Washington Colleg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nuary 31,201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3" descr="rpm-logo-enhanced-web.jpg"/>
          <p:cNvPicPr/>
          <p:nvPr/>
        </p:nvPicPr>
        <p:blipFill>
          <a:blip r:embed="rId1"/>
          <a:stretch/>
        </p:blipFill>
        <p:spPr>
          <a:xfrm>
            <a:off x="1828800" y="3187800"/>
            <a:ext cx="55832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s &amp; Announc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nd Quarter RPM Invoice and Report D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MP/RPM Partners visit the Dana Center Feb 9-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PM Spring Team Event – March 3-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PM faculty biographies (with pictur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 Observ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eaching for Understand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mplex Instruc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Deeper Learning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ki upd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rethinking-precollege-math.wikispaces.com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xt Mee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e and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pics for next quar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edbac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Hous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ntac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ject Updates (3-5 minutes per college, 1-2 sl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all Project News &amp; Announc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ion: How can we as a project community best support and promote faculty learning in the context of the grant agenda and goa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ark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erett Community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ghline Community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wer Columbia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orth Seattle Community Colleg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rthwest Indian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pokane Falls Community Colleg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0:58:15Z</dcterms:created>
  <dc:creator>John House</dc:creator>
  <dc:description/>
  <dc:language>en-US</dc:language>
  <cp:lastModifiedBy>jhouse</cp:lastModifiedBy>
  <dcterms:modified xsi:type="dcterms:W3CDTF">2011-01-24T19:03:57Z</dcterms:modified>
  <cp:revision>14</cp:revision>
  <dc:subject/>
  <dc:title>Rethinking Pre-College Math in Washington Colleges</dc:title>
</cp:coreProperties>
</file>